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401F-E3D6-4245-A352-1FD27AF93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timulus for a review can come from external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from changing practice, sometimes because evidence tells us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t it wrong.The experiment with no Mid Year exams was an exampl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that we gathered indicated that while some liked th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window, other preferred the tried and true of a Mid Year exam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xperiment was reviewed and the decision made to return to an exam slo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akes all sorts of forms. It is not just quantitative data. Qualitativ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bservation is also very usef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areas of Paul MacKinley’s brie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RIV’s portfoli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M’s responsi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ori and Pasifika achievement and LR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R has  shared some of his review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o Hart has a more extensive document that I will include in a word document for all depar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ristine’s is more extensive than this as we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ky Gray changes her programmes based upon self review</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consider what you do on your own initiative and for your depart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v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tudents are at the heart of the mat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 colours denote different re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EEN = Teachers, HODs, HOFs, SMT, Head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LUE = HODs, HOFs, SMT, Headmaster and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NNY GREEN = BOT and Head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INK = All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OWN = SMT and all Speci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nse a starting point is the last ERO Review from 2007 ( a summary has been placed on the ERO page of the MAGSPD site) but there needs to be alignment with the Strategic Plan and the annual plans that are derived from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rategic Plan (SP) runs from 2006-2010 so ERO came in the middl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plan. The SP has regularly been reviewed and a final review will in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t the stage of writing our next SP during Term 4 of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the url below into your brow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agspd.wikispaces.com/ERO+AND+SELF+REVIE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egislation is often not well known but we are mandated to abide by sev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ts. These can change as government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checklist that we are required to complete on behalf of the B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overs the headings above and are almost always completed by SM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example of the specific legislation that we are expected to comply with in relation to the BOT. Often the reality is that a member of the SMT completes the monitoring and application of these items eg Attendance, Copyright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gives an example of how some of what we do is regularly revi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view is completed while it is operational eg the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r might have 3 or 4 versions as extenuating circumstances kick 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F3643-C702-4013-9F2D-E03A55C40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4448-D7DE-4B29-948A-EE9F444B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98EC4-CFF5-4F61-A156-C37D41FB6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D9107-B41D-463D-AAE2-675F9596F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98A1-FAC2-4AA8-9ABC-17D08606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0E54-E51C-4EFC-897C-5C283B46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D28D-0DA5-44A4-BFE0-9342BA63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52BFB-3825-4688-A77B-192A430D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CF05A-83C7-4E4E-A796-EE0A27EC7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5A40-5F44-4159-8A11-1C41A2C2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DB58-54D8-4ACE-B193-DCFEB99A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D59A-E598-4551-A451-12B3F0753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A297-68D5-4082-A905-4DFA1B624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09480" y="115920"/>
            <a:ext cx="7620120" cy="666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magspd.wikispaces.com/ERO+AND+SELF+REVIEW" TargetMode="External"/><Relationship Id="rId2" Type="http://schemas.openxmlformats.org/officeDocument/2006/relationships/hyperlink" Target="http://www.magspd.wikispaces.com/" TargetMode="External"/><Relationship Id="rId3" Type="http://schemas.openxmlformats.org/officeDocument/2006/relationships/hyperlink" Target="http://www.magspd.wikispaces.com/" TargetMode="External"/><Relationship Id="rId4" Type="http://schemas.openxmlformats.org/officeDocument/2006/relationships/hyperlink" Target="http://www.magspd.wikispaces.com/" TargetMode="External"/><Relationship Id="rId5" Type="http://schemas.openxmlformats.org/officeDocument/2006/relationships/hyperlink" Target="http://www.magspd.wikispaces.com/"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unt Albert Grammar School</a:t>
            </a:r>
            <a:endParaRPr b="0" lang="en-US" sz="4400" spc="-1" strike="noStrike">
              <a:solidFill>
                <a:srgbClr val="000000"/>
              </a:solidFill>
              <a:latin typeface="Arial"/>
            </a:endParaRPr>
          </a:p>
        </p:txBody>
      </p:sp>
      <p:sp>
        <p:nvSpPr>
          <p:cNvPr id="50" name=""/>
          <p:cNvSpPr/>
          <p:nvPr/>
        </p:nvSpPr>
        <p:spPr>
          <a:xfrm>
            <a:off x="-9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1219320" y="2286000"/>
            <a:ext cx="6324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old"/>
              </a:rPr>
              <a:t>ERO</a:t>
            </a:r>
            <a:endParaRPr b="0" lang="en-US" sz="6000" spc="-1" strike="noStrike">
              <a:solidFill>
                <a:srgbClr val="000000"/>
              </a:solidFill>
              <a:latin typeface="Arial"/>
            </a:endParaRPr>
          </a:p>
        </p:txBody>
      </p:sp>
      <p:sp>
        <p:nvSpPr>
          <p:cNvPr id="52" name=""/>
          <p:cNvSpPr/>
          <p:nvPr/>
        </p:nvSpPr>
        <p:spPr>
          <a:xfrm>
            <a:off x="1523880" y="4343400"/>
            <a:ext cx="6400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Verdana Bold"/>
              </a:rPr>
              <a:t>Ko te Tamaiti te P</a:t>
            </a:r>
            <a:r>
              <a:rPr b="0" i="1" lang="en-US" sz="2400" spc="-1" strike="noStrike">
                <a:solidFill>
                  <a:srgbClr val="000000"/>
                </a:solidFill>
                <a:latin typeface="Verdana Bold"/>
              </a:rPr>
              <a:t>uta</a:t>
            </a:r>
            <a:r>
              <a:rPr b="0" i="1" lang="en-NZ" sz="2400" spc="-1" strike="noStrike">
                <a:solidFill>
                  <a:srgbClr val="000000"/>
                </a:solidFill>
                <a:latin typeface="Verdana Bold"/>
              </a:rPr>
              <a:t>ke o te Kaupa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NZ" sz="2400" spc="-1" strike="noStrike">
                <a:solidFill>
                  <a:srgbClr val="000000"/>
                </a:solidFill>
                <a:latin typeface="Verdana Bold"/>
              </a:rPr>
              <a:t>The Child – The Heart of the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Bold"/>
              </a:rPr>
              <a:t>ANALYSIS &amp; REVIEWING</a:t>
            </a:r>
            <a:endParaRPr b="0" lang="en-US" sz="2400" spc="-1" strike="noStrike">
              <a:solidFill>
                <a:srgbClr val="000000"/>
              </a:solidFill>
              <a:latin typeface="Arial"/>
            </a:endParaRPr>
          </a:p>
        </p:txBody>
      </p:sp>
      <p:graphicFrame>
        <p:nvGraphicFramePr>
          <p:cNvPr id="77" name=""/>
          <p:cNvGraphicFramePr/>
          <p:nvPr/>
        </p:nvGraphicFramePr>
        <p:xfrm>
          <a:off x="228600" y="1219320"/>
          <a:ext cx="8686800" cy="5153040"/>
        </p:xfrm>
        <a:graphic>
          <a:graphicData uri="http://schemas.openxmlformats.org/drawingml/2006/table">
            <a:tbl>
              <a:tblPr/>
              <a:tblGrid>
                <a:gridCol w="2232000"/>
                <a:gridCol w="2416320"/>
                <a:gridCol w="2222280"/>
                <a:gridCol w="1816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FOC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STIMUL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TIM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DATA and 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IOR GRADU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plan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cho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 2009</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9 2010</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9/10 2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RM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TABLE REVIE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URRICULUM</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QU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1 AND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EAR TEACHER DEVELOPMENT PL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ategic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l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gathered in an ongoing way</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and modified year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ORMAL MID YEAR EXA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FEEDBACK</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AL 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STAFF &amp; STUD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D LEARNING V READI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DATA GATHERING</a:t>
            </a:r>
            <a:endParaRPr b="0" lang="en-US" sz="2800" spc="-1" strike="noStrike">
              <a:solidFill>
                <a:srgbClr val="000000"/>
              </a:solidFill>
              <a:latin typeface="Arial"/>
            </a:endParaRPr>
          </a:p>
        </p:txBody>
      </p:sp>
      <p:graphicFrame>
        <p:nvGraphicFramePr>
          <p:cNvPr id="79" name=""/>
          <p:cNvGraphicFramePr/>
          <p:nvPr/>
        </p:nvGraphicFramePr>
        <p:xfrm>
          <a:off x="152280" y="838080"/>
          <a:ext cx="8762760" cy="5789520"/>
        </p:xfrm>
        <a:graphic>
          <a:graphicData uri="http://schemas.openxmlformats.org/drawingml/2006/table">
            <a:tbl>
              <a:tblPr/>
              <a:tblGrid>
                <a:gridCol w="2920680"/>
                <a:gridCol w="2921040"/>
                <a:gridCol w="2921040"/>
              </a:tblGrid>
              <a:tr h="445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Bold"/>
                        </a:rPr>
                        <a:t>D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RESPONSI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AP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8 TES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TT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DRK/S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 NUMERA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ior Graduation (Y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ion Diplom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1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CEA d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LR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LR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 - HO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 track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O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analys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Mode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HOFS/HOD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ng internal assess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voi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from stud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survey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HOFs/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feedback , app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6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ZCER Staff Surv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NR - 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 and My school NZC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Student engag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9 and 10 eng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to sta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4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S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at Staff Meet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MAC</a:t>
            </a:r>
            <a:endParaRPr b="0" lang="en-US" sz="2800" spc="-1" strike="noStrike">
              <a:solidFill>
                <a:srgbClr val="000000"/>
              </a:solidFill>
              <a:latin typeface="Arial"/>
            </a:endParaRPr>
          </a:p>
        </p:txBody>
      </p:sp>
      <p:graphicFrame>
        <p:nvGraphicFramePr>
          <p:cNvPr id="81" name=""/>
          <p:cNvGraphicFramePr/>
          <p:nvPr/>
        </p:nvGraphicFramePr>
        <p:xfrm>
          <a:off x="380880" y="835200"/>
          <a:ext cx="8382240" cy="5833800"/>
        </p:xfrm>
        <a:graphic>
          <a:graphicData uri="http://schemas.openxmlformats.org/drawingml/2006/table">
            <a:tbl>
              <a:tblPr/>
              <a:tblGrid>
                <a:gridCol w="2210040"/>
                <a:gridCol w="2971800"/>
                <a:gridCol w="3200400"/>
              </a:tblGrid>
              <a:tr h="285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FOL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nsion and Stand dow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QAM re Proced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maintain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by term and Annual Analys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Statistics - ethnicity, gender 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 SMT and Boar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emailed to Associate Princip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d on Spreadsheet and Websi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3 times a year in the Staff Upd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d through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2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Defence Plan / Dril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ire Drill, Lockdown Procedures with Staff</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y Present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Presenters / Revi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refin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eting points to fou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and Deputy Warde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Year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SM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in Week 2 every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the Year Review</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 - Coloured Bookl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of P.D Program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2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perations Review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by term School Review of key oper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to staff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for School Review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Parents (Yr 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in Mail ou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2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TC Records / Procedur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QAM re: Proced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lodged with A.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EOTC annual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OTC Procedures implemented in 201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a:t>
            </a:r>
            <a:endParaRPr b="0" lang="en-US" sz="4400" spc="-1" strike="noStrike">
              <a:solidFill>
                <a:srgbClr val="000000"/>
              </a:solidFill>
              <a:latin typeface="Arial"/>
            </a:endParaRPr>
          </a:p>
        </p:txBody>
      </p:sp>
      <p:pic>
        <p:nvPicPr>
          <p:cNvPr id="83" name="" descr=""/>
          <p:cNvPicPr/>
          <p:nvPr/>
        </p:nvPicPr>
        <p:blipFill>
          <a:blip r:embed="rId1"/>
          <a:stretch/>
        </p:blipFill>
        <p:spPr>
          <a:xfrm>
            <a:off x="0" y="838080"/>
            <a:ext cx="91440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WLM </a:t>
            </a:r>
            <a:endParaRPr b="0" lang="en-US" sz="2800" spc="-1" strike="noStrike">
              <a:solidFill>
                <a:srgbClr val="000000"/>
              </a:solidFill>
              <a:latin typeface="Arial"/>
            </a:endParaRPr>
          </a:p>
        </p:txBody>
      </p:sp>
      <p:graphicFrame>
        <p:nvGraphicFramePr>
          <p:cNvPr id="85" name=""/>
          <p:cNvGraphicFramePr/>
          <p:nvPr/>
        </p:nvGraphicFramePr>
        <p:xfrm>
          <a:off x="228600" y="727200"/>
          <a:ext cx="8763120" cy="6130800"/>
        </p:xfrm>
        <a:graphic>
          <a:graphicData uri="http://schemas.openxmlformats.org/drawingml/2006/table">
            <a:tbl>
              <a:tblPr/>
              <a:tblGrid>
                <a:gridCol w="1600200"/>
                <a:gridCol w="4038480"/>
                <a:gridCol w="31244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ORTFO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6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INSTIT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Term 1/2/3/4 Self Review</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 marks analysis of ACCEL students &amp; address concerns re individuals &amp; program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tudent Review Sheets &amp; Repor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s Analysi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1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ER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eview of general vies/feeling re accel programm = -Survey student &amp; staff perspective re acceleration programme - reviewed 2009 experience &amp; opinion to feed into future program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SCHOL REVIEW - WL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61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LA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 - Dept templates completed to outline proposal/plan to address schol support.  =  Dept to appt person I/c Schol within Dep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lates collated - WL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94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ual Review/update of Manu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 Night - reviews - sent End Term 1 Mailou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Conferencing - trial with lower YR9 &amp; 10 band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EEDBACK to Faculty re reports - quality etc &amp;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Feed bac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with tch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86" name=""/>
          <p:cNvSpPr/>
          <p:nvPr/>
        </p:nvSpPr>
        <p:spPr>
          <a:xfrm>
            <a:off x="326880" y="2498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152640"/>
            <a:ext cx="7848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LRN</a:t>
            </a:r>
            <a:endParaRPr b="0" lang="en-US" sz="2800" spc="-1" strike="noStrike">
              <a:solidFill>
                <a:srgbClr val="000000"/>
              </a:solidFill>
              <a:latin typeface="Arial"/>
            </a:endParaRPr>
          </a:p>
        </p:txBody>
      </p:sp>
      <p:graphicFrame>
        <p:nvGraphicFramePr>
          <p:cNvPr id="88" name=""/>
          <p:cNvGraphicFramePr/>
          <p:nvPr/>
        </p:nvGraphicFramePr>
        <p:xfrm>
          <a:off x="0" y="609480"/>
          <a:ext cx="9144000" cy="6315120"/>
        </p:xfrm>
        <a:graphic>
          <a:graphicData uri="http://schemas.openxmlformats.org/drawingml/2006/table">
            <a:tbl>
              <a:tblPr/>
              <a:tblGrid>
                <a:gridCol w="2057400"/>
                <a:gridCol w="3581280"/>
                <a:gridCol w="35053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ORTFO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881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Achiev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Develop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Student Leadershi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 Puna o Wairak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nau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nau initi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ulty Results Analysis Review</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BOT Represent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pahak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er/Tertiary Programm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 Kak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results for Maori stud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of Concern lis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 of Whanau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 of Te Puna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Websit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Quarterl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erformanc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MAR entri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3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Achiev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Liais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Parents Committe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ulty Results Analysis review</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Concer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BOT Represent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cy Programm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work Centr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CPL</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Develop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Student Leadershi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results for Pasifika stud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meeting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C Minu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MAR entri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Websit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Parent Evening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FNR</a:t>
            </a:r>
            <a:endParaRPr b="0" lang="en-US" sz="2800" spc="-1" strike="noStrike">
              <a:solidFill>
                <a:srgbClr val="000000"/>
              </a:solidFill>
              <a:latin typeface="Arial"/>
            </a:endParaRPr>
          </a:p>
        </p:txBody>
      </p:sp>
      <p:pic>
        <p:nvPicPr>
          <p:cNvPr id="90" name="" descr=""/>
          <p:cNvPicPr/>
          <p:nvPr/>
        </p:nvPicPr>
        <p:blipFill>
          <a:blip r:embed="rId1"/>
          <a:stretch/>
        </p:blipFill>
        <p:spPr>
          <a:xfrm>
            <a:off x="152280" y="990720"/>
            <a:ext cx="8991720" cy="556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9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Bold"/>
              </a:rPr>
              <a:t>FACULTY HEAD - ENGLISH</a:t>
            </a:r>
            <a:endParaRPr b="0" lang="en-US" sz="2800" spc="-1" strike="noStrike">
              <a:solidFill>
                <a:srgbClr val="000000"/>
              </a:solidFill>
              <a:latin typeface="Arial"/>
            </a:endParaRPr>
          </a:p>
        </p:txBody>
      </p:sp>
      <p:graphicFrame>
        <p:nvGraphicFramePr>
          <p:cNvPr id="92" name=""/>
          <p:cNvGraphicFramePr/>
          <p:nvPr/>
        </p:nvGraphicFramePr>
        <p:xfrm>
          <a:off x="0" y="585720"/>
          <a:ext cx="9144000" cy="6272280"/>
        </p:xfrm>
        <a:graphic>
          <a:graphicData uri="http://schemas.openxmlformats.org/drawingml/2006/table">
            <a:tbl>
              <a:tblPr/>
              <a:tblGrid>
                <a:gridCol w="2286000"/>
                <a:gridCol w="2327400"/>
                <a:gridCol w="2244600"/>
                <a:gridCol w="2286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C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C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VID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76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hole Faculty Review –classrooms, resourc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 </a:t>
                      </a:r>
                      <a:r>
                        <a:rPr b="1" lang="en-AU" sz="1400" spc="-1" strike="noStrike">
                          <a:solidFill>
                            <a:srgbClr val="000000"/>
                          </a:solidFill>
                          <a:latin typeface="Arial Narrow"/>
                        </a:rPr>
                        <a:t>students, communica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 </a:t>
                      </a:r>
                      <a:r>
                        <a:rPr b="1" lang="en-AU" sz="1400" spc="-1" strike="noStrike">
                          <a:solidFill>
                            <a:srgbClr val="000000"/>
                          </a:solidFill>
                          <a:latin typeface="Arial Narrow"/>
                        </a:rPr>
                        <a:t>staff,  H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hole dept discussion evaluating status 20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to collate and feed back.</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ction points to be followed up.</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Discussion sheets as record of mee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1</a:t>
                      </a:r>
                      <a:r>
                        <a:rPr b="1" lang="en-AU" sz="1400" spc="-1" strike="noStrike" baseline="30000">
                          <a:solidFill>
                            <a:srgbClr val="000000"/>
                          </a:solidFill>
                          <a:latin typeface="Arial Narrow"/>
                        </a:rPr>
                        <a:t>st</a:t>
                      </a:r>
                      <a:r>
                        <a:rPr b="1" lang="en-AU" sz="1400" spc="-1" strike="noStrike">
                          <a:solidFill>
                            <a:srgbClr val="000000"/>
                          </a:solidFill>
                          <a:latin typeface="Arial Narrow"/>
                        </a:rPr>
                        <a:t> Review Meeting - Term 2 20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to follow up in Term</a:t>
                      </a:r>
                      <a:r>
                        <a:rPr b="1" lang="en-A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23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reparing for new matrix for Year 11 (2011), Yr 12 (2012) and Yr 13 (2.1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viewing current courses. </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D at Kohia.</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OF/TIC of Year 11 and SCT meeting and planning of new cours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Looking at how other schools are approaching new matrix.</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dvisor called 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ttendance at Kohia PD.</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ew course outlines for Year 11 2011.</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AME Level 1 implementation day attendance in Term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Term 2 2010 through to end of ye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93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Internal Assessment and moder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Feedback from staff.</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Meeting of unit holders in Facul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produced booklet for Assessment Practice and Moderation – distributed to all staff.</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Booklet of ‘Assessment Practice and Moderation in English and Med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vised practice for administration of internal assessment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Term 2 201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Bold"/>
              </a:rPr>
              <a:t>FACULTY HEAD SOC SCIENCE</a:t>
            </a:r>
            <a:endParaRPr b="0" lang="en-US" sz="2800" spc="-1" strike="noStrike">
              <a:solidFill>
                <a:srgbClr val="000000"/>
              </a:solidFill>
              <a:latin typeface="Arial"/>
            </a:endParaRPr>
          </a:p>
        </p:txBody>
      </p:sp>
      <p:graphicFrame>
        <p:nvGraphicFramePr>
          <p:cNvPr id="94" name=""/>
          <p:cNvGraphicFramePr/>
          <p:nvPr/>
        </p:nvGraphicFramePr>
        <p:xfrm>
          <a:off x="76320" y="601560"/>
          <a:ext cx="9067680" cy="6097680"/>
        </p:xfrm>
        <a:graphic>
          <a:graphicData uri="http://schemas.openxmlformats.org/drawingml/2006/table">
            <a:tbl>
              <a:tblPr/>
              <a:tblGrid>
                <a:gridCol w="2209680"/>
                <a:gridCol w="2327400"/>
                <a:gridCol w="2244600"/>
                <a:gridCol w="2286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FOC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REVIE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9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Year 9 units changed to conceptual units with TRUM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write unit plans for new curriculum</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o-construction in team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haring and feedbac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ew plans shared with all staff</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urvey of student voice</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ourse review at end of year</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3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TAFF VO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gular discussion via staff meeing review and informal re; curriculum relevance and delivery Eg: trends analysis of strengths &amp; weaknesses post-testing/exam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Formal surveys requiring staff input to evaluating/critiquing procedures and proposing chang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Meeting minut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ulture developed of ‘continuous improvement’</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oted in self-review folder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ritten responses that feed into dept strategic plan/goal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Ongoing changes made to curriculum delivery and Annual review</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Dept strategic plan/goals reviewed annual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7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TUDENT VO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nd-of-topic evaluations (Y9/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kill/assessment evaluation</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ost-assessment evaluations of feedback/feedforward</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ngagement with topic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Bookwork respons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g ICT survey</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valuation within marking guid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heet in back of student book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Votes on myclasses site</a:t>
                      </a:r>
                      <a:r>
                        <a:rPr b="1" lang="en-A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sponses inform changes to teaching/curriculum delivery</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HOD CAREERS</a:t>
            </a:r>
            <a:endParaRPr b="0" lang="en-US" sz="2800" spc="-1" strike="noStrike">
              <a:solidFill>
                <a:srgbClr val="000000"/>
              </a:solidFill>
              <a:latin typeface="Arial"/>
            </a:endParaRPr>
          </a:p>
        </p:txBody>
      </p:sp>
      <p:pic>
        <p:nvPicPr>
          <p:cNvPr id="96" name="" descr=""/>
          <p:cNvPicPr/>
          <p:nvPr/>
        </p:nvPicPr>
        <p:blipFill>
          <a:blip r:embed="rId1"/>
          <a:stretch/>
        </p:blipFill>
        <p:spPr>
          <a:xfrm>
            <a:off x="0" y="898560"/>
            <a:ext cx="8991720" cy="59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LEARNING OUTCOMES</a:t>
            </a:r>
            <a:br>
              <a:rPr sz="2800"/>
            </a:br>
            <a:r>
              <a:rPr b="0" lang="en-US" sz="2400" spc="-1" strike="noStrike">
                <a:solidFill>
                  <a:srgbClr val="000000"/>
                </a:solidFill>
                <a:latin typeface="Arial"/>
              </a:rPr>
              <a:t>To be familiar with:</a:t>
            </a:r>
            <a:endParaRPr b="0" lang="en-US" sz="2400" spc="-1" strike="noStrike">
              <a:solidFill>
                <a:srgbClr val="000000"/>
              </a:solidFill>
              <a:latin typeface="Arial"/>
            </a:endParaRPr>
          </a:p>
        </p:txBody>
      </p:sp>
      <p:sp>
        <p:nvSpPr>
          <p:cNvPr id="54" name="PlaceHolder 2"/>
          <p:cNvSpPr>
            <a:spLocks noGrp="1"/>
          </p:cNvSpPr>
          <p:nvPr>
            <p:ph/>
          </p:nvPr>
        </p:nvSpPr>
        <p:spPr>
          <a:xfrm>
            <a:off x="151920" y="1752480"/>
            <a:ext cx="8991720" cy="4114800"/>
          </a:xfrm>
          <a:prstGeom prst="rect">
            <a:avLst/>
          </a:prstGeom>
          <a:solidFill>
            <a:srgbClr val="ccffff">
              <a:alpha val="28000"/>
            </a:srgbClr>
          </a:solidFill>
          <a:ln w="0">
            <a:noFill/>
          </a:ln>
        </p:spPr>
        <p:txBody>
          <a:bodyPr lIns="90000" rIns="90000" tIns="46800" bIns="46800" anchor="t">
            <a:normAutofit/>
          </a:bodyPr>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THE SELF REVIEW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COMP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TRATEGIC VERSUS REGULAR PLAN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DATA GATH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MT RO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HOF RO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TEACHER RO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ACHERS</a:t>
            </a:r>
            <a:endParaRPr b="0" lang="en-US" sz="4400" spc="-1" strike="noStrike">
              <a:solidFill>
                <a:srgbClr val="000000"/>
              </a:solidFill>
              <a:latin typeface="Arial"/>
            </a:endParaRPr>
          </a:p>
        </p:txBody>
      </p:sp>
      <p:graphicFrame>
        <p:nvGraphicFramePr>
          <p:cNvPr id="98" name=""/>
          <p:cNvGraphicFramePr/>
          <p:nvPr/>
        </p:nvGraphicFramePr>
        <p:xfrm>
          <a:off x="380880" y="1371600"/>
          <a:ext cx="8534520" cy="4913280"/>
        </p:xfrm>
        <a:graphic>
          <a:graphicData uri="http://schemas.openxmlformats.org/drawingml/2006/table">
            <a:tbl>
              <a:tblPr/>
              <a:tblGrid>
                <a:gridCol w="2133720"/>
                <a:gridCol w="2133720"/>
                <a:gridCol w="2133360"/>
                <a:gridCol w="213372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FOC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REVIE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960" y="6248520"/>
            <a:ext cx="8839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Bold"/>
              </a:rPr>
              <a:t>JO HARTS WORDLE FOR THE ENGLISH SCHEME</a:t>
            </a:r>
            <a:endParaRPr b="0" lang="en-US" sz="2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609480" y="3049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Bold"/>
              </a:rPr>
              <a:t>JO HART’S WORDLE FOR THE ENGLISH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TARTING POINT</a:t>
            </a:r>
            <a:endParaRPr b="0" lang="en-US" sz="28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23760"/>
            <a:ext cx="9144000" cy="69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Bold"/>
              </a:rPr>
              <a:t>ERO AND SELF REVIEW</a:t>
            </a:r>
            <a:endParaRPr b="0" lang="en-US" sz="28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7899480" y="323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4" name=""/>
          <p:cNvSpPr/>
          <p:nvPr/>
        </p:nvSpPr>
        <p:spPr>
          <a:xfrm>
            <a:off x="533520" y="762120"/>
            <a:ext cx="8305560" cy="315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Verdana"/>
              </a:rPr>
              <a:t>Student learning:  engagement, achievement and progress</a:t>
            </a:r>
            <a:endParaRPr b="0" lang="en-US" sz="2400" spc="-1" strike="noStrike">
              <a:solidFill>
                <a:srgbClr val="000000"/>
              </a:solidFill>
              <a:latin typeface="Arial"/>
            </a:endParaRPr>
          </a:p>
          <a:p>
            <a:pPr>
              <a:lnSpc>
                <a:spcPct val="100000"/>
              </a:lnSpc>
              <a:spcAft>
                <a:spcPts val="213"/>
              </a:spcAft>
              <a:buClr>
                <a:srgbClr val="008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Verdana"/>
              </a:rPr>
              <a:t> </a:t>
            </a:r>
            <a:r>
              <a:rPr b="1" lang="en-US" sz="2400" spc="-1" strike="noStrike">
                <a:solidFill>
                  <a:srgbClr val="008040"/>
                </a:solidFill>
                <a:latin typeface="Verdana"/>
              </a:rPr>
              <a:t>Effective teaching</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333399"/>
                </a:solidFill>
                <a:latin typeface="Verdana"/>
              </a:rPr>
              <a:t>Leading and managing the school</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9999"/>
                </a:solidFill>
                <a:latin typeface="Verdana"/>
              </a:rPr>
              <a:t>Governing the school</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ff0080"/>
                </a:solidFill>
                <a:latin typeface="Verdana"/>
              </a:rPr>
              <a:t>Safe and inclusive school culture</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804000"/>
                </a:solidFill>
                <a:latin typeface="Verdana"/>
              </a:rPr>
              <a:t>Engaging parents, whānau and communities. </a:t>
            </a:r>
            <a:endParaRPr b="0" lang="en-US" sz="2400" spc="-1" strike="noStrike">
              <a:solidFill>
                <a:srgbClr val="000000"/>
              </a:solidFill>
              <a:latin typeface="Arial"/>
            </a:endParaRPr>
          </a:p>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a:off x="1600200" y="3429000"/>
            <a:ext cx="57913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A STARTING POINT</a:t>
            </a:r>
            <a:endParaRPr b="0" lang="en-US" sz="28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ERO review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PT of key ideas from last ERO presentation on magspdwikispac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agspd.wikispaces.com/ERO+AND+SELF+REVIEW</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features of ERO Reviews on the wiki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available on ERO site. www.ero.govt.n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Mags</a:t>
            </a:r>
            <a:r>
              <a:rPr b="0" lang="en-US" sz="2400" spc="-1" strike="noStrike" u="sng">
                <a:solidFill>
                  <a:srgbClr val="009999"/>
                </a:solidFill>
                <a:uFillTx/>
                <a:latin typeface="Arial"/>
                <a:hlinkClick r:id="rId3"/>
              </a:rPr>
              <a:t> </a:t>
            </a:r>
            <a:r>
              <a:rPr b="0" lang="en-US" sz="2400" spc="-1" strike="noStrike" u="sng">
                <a:solidFill>
                  <a:srgbClr val="009999"/>
                </a:solidFill>
                <a:uFillTx/>
                <a:latin typeface="Arial"/>
                <a:hlinkClick r:id="rId4"/>
              </a:rPr>
              <a:t>PD </a:t>
            </a:r>
            <a:r>
              <a:rPr b="0" lang="en-US" sz="2400" spc="-1" strike="noStrike" u="sng">
                <a:solidFill>
                  <a:srgbClr val="009999"/>
                </a:solidFill>
                <a:uFillTx/>
                <a:latin typeface="Arial"/>
                <a:hlinkClick r:id="rId5"/>
              </a:rPr>
              <a:t>wik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 </a:t>
            </a:r>
            <a:r>
              <a:rPr b="1" lang="en-AU" sz="2400" spc="-1" strike="noStrike">
                <a:solidFill>
                  <a:srgbClr val="000000"/>
                </a:solidFill>
                <a:latin typeface="Verdana Bold"/>
              </a:rPr>
              <a:t>GOVERNANCE - BOT</a:t>
            </a:r>
            <a:endParaRPr b="0" lang="en-US" sz="2400" spc="-1" strike="noStrike">
              <a:solidFill>
                <a:srgbClr val="000000"/>
              </a:solidFill>
              <a:latin typeface="Arial"/>
            </a:endParaRPr>
          </a:p>
        </p:txBody>
      </p:sp>
      <p:sp>
        <p:nvSpPr>
          <p:cNvPr id="69" name="PlaceHolder 2"/>
          <p:cNvSpPr>
            <a:spLocks noGrp="1"/>
          </p:cNvSpPr>
          <p:nvPr>
            <p:ph/>
          </p:nvPr>
        </p:nvSpPr>
        <p:spPr>
          <a:xfrm>
            <a:off x="457200" y="838080"/>
            <a:ext cx="7772400" cy="411480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Arial"/>
              </a:rPr>
              <a:t>Compliance but almost always completed by SMT members eg</a:t>
            </a:r>
            <a:endParaRPr b="0" lang="en-US" sz="2700" spc="-1" strike="noStrike">
              <a:solidFill>
                <a:srgbClr val="000000"/>
              </a:solidFill>
              <a:latin typeface="Arial"/>
            </a:endParaRPr>
          </a:p>
        </p:txBody>
      </p:sp>
      <p:sp>
        <p:nvSpPr>
          <p:cNvPr id="70" name=""/>
          <p:cNvSpPr/>
          <p:nvPr/>
        </p:nvSpPr>
        <p:spPr>
          <a:xfrm>
            <a:off x="609480" y="1776240"/>
            <a:ext cx="7620120" cy="505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Board Administration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Curriculum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Health, Safety &amp; Welfare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Personnel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Financial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Asset Management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2120" y="838080"/>
            <a:ext cx="8076960" cy="5677200"/>
          </a:xfrm>
          <a:prstGeom prst="rect">
            <a:avLst/>
          </a:prstGeom>
          <a:ln w="9360">
            <a:solidFill>
              <a:srgbClr val="000000"/>
            </a:solidFill>
            <a:miter/>
          </a:ln>
        </p:spPr>
      </p:pic>
      <p:sp>
        <p:nvSpPr>
          <p:cNvPr id="72" name=""/>
          <p:cNvSpPr/>
          <p:nvPr/>
        </p:nvSpPr>
        <p:spPr>
          <a:xfrm>
            <a:off x="2209680" y="22860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Bold"/>
              </a:rPr>
              <a:t>EXAMPLE OF COMPL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PLANNING </a:t>
            </a:r>
            <a:br>
              <a:rPr sz="2800"/>
            </a:br>
            <a:r>
              <a:rPr b="0" lang="en-US" sz="2800" spc="-1" strike="noStrike">
                <a:solidFill>
                  <a:srgbClr val="000000"/>
                </a:solidFill>
                <a:latin typeface="Verdana Bold"/>
              </a:rPr>
              <a:t>STRATEGIC should align with REGULAR</a:t>
            </a:r>
            <a:endParaRPr b="0" lang="en-US" sz="2800" spc="-1" strike="noStrike">
              <a:solidFill>
                <a:srgbClr val="000000"/>
              </a:solidFill>
              <a:latin typeface="Arial"/>
            </a:endParaRPr>
          </a:p>
        </p:txBody>
      </p:sp>
      <p:sp>
        <p:nvSpPr>
          <p:cNvPr id="74" name="PlaceHolder 2"/>
          <p:cNvSpPr>
            <a:spLocks noGrp="1"/>
          </p:cNvSpPr>
          <p:nvPr>
            <p:ph/>
          </p:nvPr>
        </p:nvSpPr>
        <p:spPr>
          <a:xfrm>
            <a:off x="1028700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5" name=""/>
          <p:cNvGraphicFramePr/>
          <p:nvPr/>
        </p:nvGraphicFramePr>
        <p:xfrm>
          <a:off x="380880" y="1371600"/>
          <a:ext cx="8458200" cy="5180040"/>
        </p:xfrm>
        <a:graphic>
          <a:graphicData uri="http://schemas.openxmlformats.org/drawingml/2006/table">
            <a:tbl>
              <a:tblPr/>
              <a:tblGrid>
                <a:gridCol w="2225880"/>
                <a:gridCol w="365040"/>
                <a:gridCol w="2819520"/>
                <a:gridCol w="3047760"/>
              </a:tblGrid>
              <a:tr h="60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N-PPE-FACUL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AND WHE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DS CHAN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HOF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 THE 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SMT-DEA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PLAN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PLANN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 BY TE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TC PLAN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TERM BY TE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0:42:37Z</dcterms:created>
  <dc:creator>John Pipe</dc:creator>
  <dc:description/>
  <dc:language>en-US</dc:language>
  <cp:lastModifiedBy>John Pipe</cp:lastModifiedBy>
  <cp:lastPrinted>2010-06-27T21:04:45Z</cp:lastPrinted>
  <dcterms:modified xsi:type="dcterms:W3CDTF">2010-07-08T10:51:10Z</dcterms:modified>
  <cp:revision>2</cp:revision>
  <dc:subject/>
  <dc:title>Mount Albert Grammar School</dc:title>
</cp:coreProperties>
</file>